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7.wmf" ContentType="image/x-wmf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CAMERA.WAV" ContentType="audio/x-wav"/>
  <Override PartName="/ppt/media/Utopia%20Critical%20Stop.wav" ContentType="audio/x-wav"/>
  <Override PartName="/ppt/media/image16.jpeg" ContentType="image/jpeg"/>
  <Override PartName="/ppt/media/TYPE.WAV" ContentType="audio/x-wav"/>
  <Override PartName="/ppt/media/image35.wmf" ContentType="image/x-wmf"/>
  <Override PartName="/ppt/media/image9.jpeg" ContentType="image/jpeg"/>
  <Override PartName="/ppt/media/image11.jpeg" ContentType="image/jpeg"/>
  <Override PartName="/ppt/media/image14.jpeg" ContentType="image/jpeg"/>
  <Override PartName="/ppt/media/WHOOSH.WAV" ContentType="audio/x-wav"/>
  <Override PartName="/ppt/media/image28.jpeg" ContentType="image/jpeg"/>
  <Override PartName="/ppt/media/image12.jpeg" ContentType="image/jpeg"/>
  <Override PartName="/ppt/media/image34.wmf" ContentType="image/x-wmf"/>
  <Override PartName="/ppt/media/LASER.WAV" ContentType="audio/x-wav"/>
  <Override PartName="/ppt/media/image6.wmf" ContentType="image/x-wmf"/>
  <Override PartName="/ppt/media/image36.png" ContentType="image/png"/>
  <Override PartName="/ppt/media/image30.jpeg" ContentType="image/jpeg"/>
  <Override PartName="/ppt/media/image7.wmf" ContentType="image/x-wmf"/>
  <Override PartName="/ppt/media/image37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media/image33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31.wmf" ContentType="image/x-wmf"/>
  <Override PartName="/ppt/media/image1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31F-20A4-4771-922C-D45305D6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F41-7D3B-4F41-B498-0E9616BA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75D-310B-4DDE-812E-61FBE936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B7C-2248-430D-A450-4582113C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9C5-2105-4943-A831-FEDDB9AB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D1F-DFF8-46A4-9831-60DB40F0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000-9A05-4202-980D-C9A346BF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59D-40E4-450E-9242-3A8DE33C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F1F-EB51-408D-87BF-72AC7C71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49C-4EB3-4AC0-A704-99F94FA6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0CF-1633-47D5-BECD-B94A297E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06C-73BA-437B-8A85-B53DCD61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D730-1CB6-49A3-8EB3-E65D81CEF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file:///tmp/home/.config/libreoffice/4/user/gallery/Utopia%20Critical%20Stop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Utopia%20Critical%20Stop.wav" TargetMode="External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audio" Target="../media/Utopia%20Critical%20Stop.wav"/><Relationship Id="rId4" Type="http://schemas.openxmlformats.org/officeDocument/2006/relationships/audio" Target="../media/Utopia%20Critical%20Stop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0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hyperlink" Target="file:///tmp/home/.config/libreoffice/4/user/gallery/Utopia%20Critical%20Stop.wav" TargetMode="External"/><Relationship Id="rId7" Type="http://schemas.openxmlformats.org/officeDocument/2006/relationships/hyperlink" Target="file:///tmp/home/.config/libreoffice/4/user/gallery/Utopia%20Critical%20Stop.wav" TargetMode="External"/><Relationship Id="rId8" Type="http://schemas.openxmlformats.org/officeDocument/2006/relationships/hyperlink" Target="file:///tmp/home/.config/libreoffice/4/user/gallery/Utopia%20Critical%20Stop.wav" TargetMode="External"/><Relationship Id="rId9" Type="http://schemas.openxmlformats.org/officeDocument/2006/relationships/hyperlink" Target="file:///tmp/home/.config/libreoffice/4/user/gallery/Utopia%20Critical%20Stop.wav" TargetMode="External"/><Relationship Id="rId10" Type="http://schemas.openxmlformats.org/officeDocument/2006/relationships/hyperlink" Target="file:///tmp/home/.config/libreoffice/4/user/gallery/Utopia%20Critical%20Stop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hyperlink" Target="file:///tmp/home/.config/libreoffice/4/user/gallery/Utopia%20Critical%20Stop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hyperlink" Target="file:///tmp/home/.config/libreoffice/4/user/gallery/Utopia%20Critical%20Stop.wav" TargetMode="External"/><Relationship Id="rId4" Type="http://schemas.openxmlformats.org/officeDocument/2006/relationships/audio" Target="../media/LASER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topia%20Critical%20Stop.wav" TargetMode="External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hyperlink" Target="file:///tmp/home/.config/libreoffice/4/user/gallery/Utopia%20Critical%20Stop.wav" TargetMode="External"/><Relationship Id="rId5" Type="http://schemas.openxmlformats.org/officeDocument/2006/relationships/hyperlink" Target="file:///tmp/home/.config/libreoffice/4/user/gallery/Utopia%20Critical%20Stop.wav" TargetMode="External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file:///tmp/home/.config/libreoffice/4/user/gallery/Utopia%20Critical%20Stop.wav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1219320" y="2666880"/>
          <a:ext cx="701028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701028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1295280" y="4495680"/>
          <a:ext cx="175284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495680"/>
                    <a:ext cx="175284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685800" y="533520"/>
            <a:ext cx="8153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roduction to Wav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5715000" y="4267080"/>
            <a:ext cx="2135160" cy="21528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6">
            <a:hlinkClick r:id="" action="ppaction://hlinkshowjump?jump=nextslide"/>
          </p:cNvPr>
          <p:cNvSpPr/>
          <p:nvPr/>
        </p:nvSpPr>
        <p:spPr>
          <a:xfrm>
            <a:off x="5181480" y="5867280"/>
            <a:ext cx="3581640" cy="609840"/>
          </a:xfrm>
          <a:prstGeom prst="rightArrow">
            <a:avLst>
              <a:gd name="adj1" fmla="val 50000"/>
              <a:gd name="adj2" fmla="val 146827"/>
            </a:avLst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to slide change for this page, 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WAIT…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  <a:ea typeface="新細明體"/>
              </a:rPr>
              <a:t>Terminology of a Wav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新細明體"/>
              </a:rPr>
              <a:t>Amplitu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新細明體"/>
              </a:rPr>
              <a:t>Wavelength  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新細明體"/>
              </a:rPr>
              <a:t>Frequency  (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新細明體"/>
              </a:rPr>
              <a:t>Period 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新細明體"/>
              </a:rPr>
              <a:t>Wave velocity (v)</a:t>
            </a:r>
            <a:r>
              <a:rPr b="0" lang="en-US" sz="2000" spc="-1" strike="noStrike">
                <a:solidFill>
                  <a:srgbClr val="000000"/>
                </a:solidFill>
                <a:latin typeface="Calligrapher"/>
                <a:ea typeface="新細明體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新細明體"/>
              </a:rPr>
              <a:t>A wave is usually described by the following term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914400" y="5638680"/>
            <a:ext cx="7772400" cy="8668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term will be explaine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2816280" cy="2838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2590920"/>
            <a:ext cx="8153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amplit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maximum displacement of the medium from its equilibrium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wave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is the minimum distance between two points which are in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ƒ) is the number of complete oscillations made in one second.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新細明體"/>
              </a:rPr>
              <a:t>Unit  : </a:t>
            </a:r>
            <a:r>
              <a:rPr b="0" i="1" lang="en-US" sz="2400" spc="-1" strike="noStrike">
                <a:solidFill>
                  <a:srgbClr val="990099"/>
                </a:solidFill>
                <a:latin typeface="Times New Roman"/>
                <a:ea typeface="新細明體"/>
              </a:rPr>
              <a:t> H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T) is the time taken for one complete oscillation. It is related to frequency by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T = 1/ƒ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新細明體"/>
              </a:rPr>
              <a:t>Unit  :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D:\My_files\NTERM.JPG"/>
          <p:cNvPicPr/>
          <p:nvPr/>
        </p:nvPicPr>
        <p:blipFill>
          <a:blip r:embed="rId2"/>
          <a:stretch/>
        </p:blipFill>
        <p:spPr>
          <a:xfrm>
            <a:off x="838080" y="304920"/>
            <a:ext cx="7391520" cy="22096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4">
            <a:hlinkClick r:id="rId3"/>
          </p:cNvPr>
          <p:cNvSpPr/>
          <p:nvPr/>
        </p:nvSpPr>
        <p:spPr>
          <a:xfrm>
            <a:off x="68580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467480" y="5867280"/>
            <a:ext cx="1371600" cy="703800"/>
          </a:xfrm>
          <a:prstGeom prst="rect">
            <a:avLst/>
          </a:prstGeom>
          <a:solidFill>
            <a:srgbClr val="ffd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新細明體"/>
              </a:rPr>
              <a:t>Table of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新細明體"/>
              </a:rPr>
              <a:t> Contents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4a9"/>
            </a:gs>
            <a:gs pos="50000">
              <a:srgbClr val="ada987"/>
            </a:gs>
            <a:gs pos="100000">
              <a:srgbClr val="d9d4a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676520" y="10666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Unicorn"/>
                <a:ea typeface="新細明體"/>
              </a:rPr>
              <a:t>The Wav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828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ave velocity is the displacement traveled by the wave in one second ……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9880" y="3809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ave velocity  (v) is relat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frequency and wavelength by  -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5410080" y="4800600"/>
            <a:ext cx="2057400" cy="914400"/>
          </a:xfrm>
          <a:prstGeom prst="flowChartProcess">
            <a:avLst/>
          </a:prstGeom>
          <a:solidFill>
            <a:srgbClr val="f8bc74"/>
          </a:solidFill>
          <a:ln w="0">
            <a:noFill/>
          </a:ln>
          <a:effectLst>
            <a:outerShdw dist="137587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 = ƒ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447920" y="4800600"/>
            <a:ext cx="3657600" cy="914400"/>
          </a:xfrm>
          <a:custGeom>
            <a:avLst/>
            <a:gdLst>
              <a:gd name="textAreaLeft" fmla="*/ 457200 w 3657600"/>
              <a:gd name="textAreaRight" fmla="*/ 3200400 w 3657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a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D:\My_files\NTRAIN.JPG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3810240" y="333360"/>
            <a:ext cx="168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PART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1066680" y="3733920"/>
            <a:ext cx="2590920" cy="990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lick to expl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80880" y="380880"/>
            <a:ext cx="845820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OldCentury"/>
                <a:ea typeface="新細明體"/>
              </a:rPr>
              <a:t>              </a:t>
            </a:r>
            <a:r>
              <a:rPr b="0" lang="en-US" sz="3200" spc="-1" strike="noStrike">
                <a:solidFill>
                  <a:srgbClr val="3333cc"/>
                </a:solidFill>
                <a:latin typeface="OldCentury"/>
                <a:ea typeface="新細明體"/>
              </a:rPr>
              <a:t>Using the Wave Equation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ravelling wave of wavelength 0.6m moves at a speed of 3.0 m/s.  What is the period of this w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304920" y="3581280"/>
            <a:ext cx="3200400" cy="99072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ck to see th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5410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Then the period of this wave is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85800" y="5730840"/>
            <a:ext cx="3657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Period T = 1/ƒ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            T = 1/5.0 or 0.2 s</a:t>
            </a:r>
            <a:br>
              <a:rPr sz="24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09480" y="22860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Now you know  </a:t>
            </a:r>
            <a:r>
              <a:rPr b="0" lang="en-US" sz="2400" spc="-1" strike="noStrike">
                <a:solidFill>
                  <a:srgbClr val="660033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 = 0.6 m,  v = 3.0 m/s</a:t>
            </a:r>
            <a:br>
              <a:rPr sz="2400"/>
            </a:b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      Can you find the frequency of this wave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">
            <a:hlinkClick r:id="rId2"/>
          </p:cNvPr>
          <p:cNvSpPr/>
          <p:nvPr/>
        </p:nvSpPr>
        <p:spPr>
          <a:xfrm>
            <a:off x="7238880" y="6019920"/>
            <a:ext cx="586080" cy="533160"/>
          </a:xfrm>
          <a:custGeom>
            <a:avLst/>
            <a:gdLst>
              <a:gd name="textAreaLeft" fmla="*/ 34560 w 586080"/>
              <a:gd name="textAreaRight" fmla="*/ 551520 w 586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3743" h="21600">
                <a:moveTo>
                  <a:pt x="0" y="0"/>
                </a:moveTo>
                <a:lnTo>
                  <a:pt x="23743" y="0"/>
                </a:lnTo>
                <a:lnTo>
                  <a:pt x="23743" y="21600"/>
                </a:lnTo>
                <a:lnTo>
                  <a:pt x="0" y="21600"/>
                </a:lnTo>
                <a:close/>
              </a:path>
              <a:path fill="lightenLess" w="23743" h="21600">
                <a:moveTo>
                  <a:pt x="0" y="0"/>
                </a:moveTo>
                <a:lnTo>
                  <a:pt x="23743" y="0"/>
                </a:lnTo>
                <a:lnTo>
                  <a:pt x="22343" y="1400"/>
                </a:lnTo>
                <a:lnTo>
                  <a:pt x="1400" y="1400"/>
                </a:lnTo>
                <a:close/>
              </a:path>
              <a:path fill="darken" w="23743" h="21600">
                <a:moveTo>
                  <a:pt x="23743" y="0"/>
                </a:moveTo>
                <a:lnTo>
                  <a:pt x="23743" y="21600"/>
                </a:lnTo>
                <a:lnTo>
                  <a:pt x="22343" y="20200"/>
                </a:lnTo>
                <a:lnTo>
                  <a:pt x="22343" y="1400"/>
                </a:lnTo>
                <a:close/>
              </a:path>
              <a:path fill="darkenLess" w="23743" h="21600">
                <a:moveTo>
                  <a:pt x="23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3" y="20200"/>
                </a:lnTo>
                <a:close/>
              </a:path>
              <a:path fill="lighten" w="23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43" h="21600">
                <a:moveTo>
                  <a:pt x="4865" y="7493"/>
                </a:moveTo>
                <a:lnTo>
                  <a:pt x="8372" y="7493"/>
                </a:lnTo>
                <a:lnTo>
                  <a:pt x="8372" y="12828"/>
                </a:lnTo>
                <a:cubicBezTo>
                  <a:pt x="8372" y="13751"/>
                  <a:pt x="9173" y="14482"/>
                  <a:pt x="10209" y="14482"/>
                </a:cubicBezTo>
                <a:lnTo>
                  <a:pt x="11871" y="14482"/>
                </a:lnTo>
                <a:cubicBezTo>
                  <a:pt x="12907" y="14482"/>
                  <a:pt x="13708" y="13751"/>
                  <a:pt x="13708" y="12828"/>
                </a:cubicBezTo>
                <a:lnTo>
                  <a:pt x="13708" y="7493"/>
                </a:lnTo>
                <a:lnTo>
                  <a:pt x="11871" y="7493"/>
                </a:lnTo>
                <a:lnTo>
                  <a:pt x="15379" y="3985"/>
                </a:lnTo>
                <a:lnTo>
                  <a:pt x="19052" y="7493"/>
                </a:lnTo>
                <a:lnTo>
                  <a:pt x="17215" y="7493"/>
                </a:lnTo>
                <a:lnTo>
                  <a:pt x="17215" y="12828"/>
                </a:lnTo>
                <a:cubicBezTo>
                  <a:pt x="17215" y="15596"/>
                  <a:pt x="14639" y="18155"/>
                  <a:pt x="11871" y="18155"/>
                </a:cubicBezTo>
                <a:lnTo>
                  <a:pt x="10209" y="18155"/>
                </a:lnTo>
                <a:cubicBezTo>
                  <a:pt x="7441" y="18155"/>
                  <a:pt x="4865" y="15596"/>
                  <a:pt x="486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7848720" y="6019920"/>
            <a:ext cx="990360" cy="53316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新細明體"/>
              </a:rPr>
              <a:t>Tabl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新細明體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3790800" y="3105000"/>
            <a:ext cx="5581800" cy="4186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3962520" y="3124080"/>
            <a:ext cx="426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By using the 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equation,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          v = ƒ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       3.0 = ƒ(0.6)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 i.e     ƒ = 5.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09120" y="3123720"/>
            <a:ext cx="5867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lack"/>
                <a:ea typeface="新細明體"/>
              </a:rPr>
              <a:t>Transmission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Black"/>
                <a:ea typeface="新細明體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  <a:ea typeface="新細明體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 Black"/>
                <a:ea typeface="新細明體"/>
              </a:rPr>
              <a:t>Dif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  <a:ea typeface="新細明體"/>
              </a:rPr>
              <a:t>Interfer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609480" y="1447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475e"/>
                    </a:gs>
                    <a:gs pos="50000">
                      <a:srgbClr val="ff99cc"/>
                    </a:gs>
                    <a:gs pos="100000">
                      <a:srgbClr val="76475e"/>
                    </a:gs>
                  </a:gsLst>
                  <a:lin ang="5400000"/>
                </a:gradFill>
                <a:latin typeface="標楷體"/>
              </a:rPr>
              <a:t>Common Characteristics of Wav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475e"/>
                  </a:gs>
                  <a:gs pos="50000">
                    <a:srgbClr val="ff99cc"/>
                  </a:gs>
                  <a:gs pos="100000">
                    <a:srgbClr val="76475e"/>
                  </a:gs>
                </a:gsLst>
                <a:lin ang="5400000"/>
              </a:gradFill>
              <a:latin typeface="標楷體"/>
              <a:ea typeface="標楷體"/>
            </a:endParaRPr>
          </a:p>
        </p:txBody>
      </p:sp>
      <p:pic>
        <p:nvPicPr>
          <p:cNvPr id="128" name="Object 4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879640" cy="29718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5"/>
          <p:cNvSpPr txBox="1"/>
          <p:nvPr/>
        </p:nvSpPr>
        <p:spPr>
          <a:xfrm>
            <a:off x="6477120" y="3886200"/>
            <a:ext cx="1523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標楷體"/>
              </a:rPr>
              <a:t>Wav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標楷體"/>
              <a:ea typeface="標楷體"/>
            </a:endParaRPr>
          </a:p>
        </p:txBody>
      </p:sp>
      <p:sp>
        <p:nvSpPr>
          <p:cNvPr id="130" name="WordArt 6"/>
          <p:cNvSpPr txBox="1"/>
          <p:nvPr/>
        </p:nvSpPr>
        <p:spPr>
          <a:xfrm>
            <a:off x="6553080" y="5486400"/>
            <a:ext cx="1067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標楷體"/>
              </a:rPr>
              <a:t>Wav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標楷體"/>
              <a:ea typeface="標楷體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143000" y="2286000"/>
            <a:ext cx="3200400" cy="914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新細明體"/>
              </a:rPr>
              <a:t>Cl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1371600" y="2362320"/>
            <a:ext cx="3200400" cy="914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新細明體"/>
              </a:rPr>
              <a:t>Cl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581280" y="380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PART 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5c5c"/>
            </a:gs>
            <a:gs pos="50000">
              <a:srgbClr val="c7c7c7"/>
            </a:gs>
            <a:gs pos="100000">
              <a:srgbClr val="5c5c5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762120" y="9144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Let’s take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  <a:ea typeface="新細明體"/>
              </a:rPr>
              <a:t>water wave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as an example to study the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characteristics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f wave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bject 3" descr=""/>
          <p:cNvPicPr/>
          <p:nvPr/>
        </p:nvPicPr>
        <p:blipFill>
          <a:blip r:embed="rId1"/>
          <a:stretch/>
        </p:blipFill>
        <p:spPr>
          <a:xfrm>
            <a:off x="6934320" y="2590920"/>
            <a:ext cx="1836720" cy="1920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685800" y="23623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新細明體"/>
              </a:rPr>
              <a:t>The behavior of </a:t>
            </a:r>
            <a:r>
              <a:rPr b="0" i="1" lang="en-US" sz="2400" spc="-1" strike="noStrike">
                <a:solidFill>
                  <a:srgbClr val="cc6600"/>
                </a:solidFill>
                <a:latin typeface="Arial"/>
                <a:ea typeface="新細明體"/>
              </a:rPr>
              <a:t>water wav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新細明體"/>
              </a:rPr>
              <a:t> demonstrates all these characteristics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新細明體"/>
              </a:rPr>
              <a:t>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410080" y="4267080"/>
            <a:ext cx="990720" cy="685800"/>
          </a:xfrm>
          <a:custGeom>
            <a:avLst/>
            <a:gdLst>
              <a:gd name="textAreaLeft" fmla="*/ 132480 w 990720"/>
              <a:gd name="textAreaRight" fmla="*/ 858240 w 990720"/>
              <a:gd name="textAreaTop" fmla="*/ 121320 h 685800"/>
              <a:gd name="textAreaBottom" fmla="*/ 4896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55" stAng="-5400000" swAng="-5400000"/>
                <a:lnTo>
                  <a:pt x="0" y="11595"/>
                </a:lnTo>
                <a:arcTo wR="21600" hR="7655" stAng="10800000" swAng="-2704102"/>
                <a:lnTo>
                  <a:pt x="14400" y="21162"/>
                </a:lnTo>
                <a:lnTo>
                  <a:pt x="21600" y="17280"/>
                </a:lnTo>
                <a:lnTo>
                  <a:pt x="14400" y="12522"/>
                </a:lnTo>
                <a:lnTo>
                  <a:pt x="14400" y="14872"/>
                </a:lnTo>
                <a:arcTo wR="21600" hR="7655" stAng="8095898" swAng="2380597"/>
                <a:lnTo>
                  <a:pt x="728" y="9625"/>
                </a:lnTo>
                <a:arcTo wR="21600" hR="7655" stAng="-10476495" swAng="5076495"/>
                <a:close/>
              </a:path>
              <a:path fill="darkenLess" w="21600" h="21600">
                <a:moveTo>
                  <a:pt x="21600" y="0"/>
                </a:moveTo>
                <a:arcTo wR="21600" hR="7655" stAng="-5400000" swAng="-5400000"/>
                <a:lnTo>
                  <a:pt x="0" y="7655"/>
                </a:lnTo>
                <a:arcTo wR="21600" hR="7655" stAng="10800000" swAng="-323505"/>
                <a:lnTo>
                  <a:pt x="728" y="9625"/>
                </a:lnTo>
                <a:arcTo wR="21600" hR="7655" stAng="-10476495" swAng="507649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6705720" y="4724280"/>
            <a:ext cx="2057400" cy="304920"/>
          </a:xfrm>
          <a:prstGeom prst="rightArrow">
            <a:avLst>
              <a:gd name="adj1" fmla="val 50000"/>
              <a:gd name="adj2" fmla="val 1686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D:\My_files\NRipple.jpg"/>
          <p:cNvPicPr/>
          <p:nvPr/>
        </p:nvPicPr>
        <p:blipFill>
          <a:blip r:embed="rId2"/>
          <a:stretch/>
        </p:blipFill>
        <p:spPr>
          <a:xfrm>
            <a:off x="838080" y="3352680"/>
            <a:ext cx="4394160" cy="3124440"/>
          </a:xfrm>
          <a:prstGeom prst="rect">
            <a:avLst/>
          </a:prstGeom>
          <a:ln w="0">
            <a:noFill/>
          </a:ln>
        </p:spPr>
      </p:pic>
      <p:sp>
        <p:nvSpPr>
          <p:cNvPr id="140" name="WordArt 8"/>
          <p:cNvSpPr txBox="1"/>
          <p:nvPr/>
        </p:nvSpPr>
        <p:spPr>
          <a:xfrm>
            <a:off x="5562720" y="5410080"/>
            <a:ext cx="3276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b1b1ff"/>
                    </a:gs>
                  </a:gsLst>
                  <a:lin ang="5400000"/>
                </a:gradFill>
                <a:latin typeface="標楷體"/>
              </a:rPr>
              <a:t>Water Wav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b1b1ff"/>
                  </a:gs>
                </a:gsLst>
                <a:lin ang="5400000"/>
              </a:gradFill>
              <a:latin typeface="標楷體"/>
              <a:ea typeface="標楷體"/>
            </a:endParaRPr>
          </a:p>
        </p:txBody>
      </p:sp>
    </p:spTree>
  </p:cSld>
  <p:transition>
    <p:random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topia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topia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4572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  <a:ea typeface="新細明體"/>
              </a:rPr>
              <a:t>Reflection of Wa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93640" y="1413000"/>
            <a:ext cx="70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  <a:ea typeface="新細明體"/>
              </a:rPr>
              <a:t>A travelling wave is</a:t>
            </a:r>
            <a:r>
              <a:rPr b="1" lang="en-US" sz="2400" spc="-1" strike="noStrike">
                <a:solidFill>
                  <a:srgbClr val="ffcc99"/>
                </a:solidFill>
                <a:latin typeface="Times New Roman"/>
                <a:ea typeface="新細明體"/>
              </a:rPr>
              <a:t> </a:t>
            </a:r>
            <a:r>
              <a:rPr b="1" i="1" lang="en-US" sz="2400" spc="-1" strike="noStrike">
                <a:solidFill>
                  <a:srgbClr val="ffcc99"/>
                </a:solidFill>
                <a:latin typeface="Times New Roman"/>
                <a:ea typeface="新細明體"/>
              </a:rPr>
              <a:t>reflected</a:t>
            </a:r>
            <a:r>
              <a:rPr b="0" i="1" lang="en-US" sz="2400" spc="-1" strike="noStrike">
                <a:solidFill>
                  <a:srgbClr val="ffcc99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cc99"/>
                </a:solidFill>
                <a:latin typeface="Times New Roman"/>
                <a:ea typeface="新細明體"/>
              </a:rPr>
              <a:t>when it hits a barr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3520" y="1905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  <a:ea typeface="新細明體"/>
              </a:rPr>
              <a:t>This phenomenon can easily be observed when a travelling water</a:t>
            </a:r>
            <a:br>
              <a:rPr sz="2400"/>
            </a:br>
            <a:r>
              <a:rPr b="0" lang="en-US" sz="2400" spc="-1" strike="noStrike">
                <a:solidFill>
                  <a:srgbClr val="ffccff"/>
                </a:solidFill>
                <a:latin typeface="Times New Roman"/>
                <a:ea typeface="新細明體"/>
              </a:rPr>
              <a:t>wave hits a reflector in the ripple ta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D:\My_files\NReflect.jpg"/>
          <p:cNvPicPr/>
          <p:nvPr/>
        </p:nvPicPr>
        <p:blipFill>
          <a:blip r:embed="rId1"/>
          <a:stretch/>
        </p:blipFill>
        <p:spPr>
          <a:xfrm>
            <a:off x="838080" y="2666880"/>
            <a:ext cx="5334120" cy="3808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286000" y="4572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  <a:ea typeface="新細明體"/>
              </a:rPr>
              <a:t>Reflection of Wa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6400800" y="3048120"/>
            <a:ext cx="762120" cy="1981080"/>
          </a:xfrm>
          <a:custGeom>
            <a:avLst/>
            <a:gdLst>
              <a:gd name="textAreaLeft" fmla="*/ 0 w 762120"/>
              <a:gd name="textAreaRight" fmla="*/ 275040 w 7621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6"/>
                </a:lnTo>
                <a:cubicBezTo>
                  <a:pt x="10800" y="9476"/>
                  <a:pt x="16200" y="10376"/>
                  <a:pt x="21600" y="10376"/>
                </a:cubicBezTo>
                <a:cubicBezTo>
                  <a:pt x="16200" y="10376"/>
                  <a:pt x="10800" y="11276"/>
                  <a:pt x="10800" y="1217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7315200" y="3733920"/>
            <a:ext cx="1371600" cy="761760"/>
          </a:xfrm>
          <a:prstGeom prst="foldedCorner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Ref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6172200" y="2590920"/>
            <a:ext cx="1752480" cy="457200"/>
          </a:xfrm>
          <a:prstGeom prst="leftArrow">
            <a:avLst>
              <a:gd name="adj1" fmla="val 49306"/>
              <a:gd name="adj2" fmla="val 11215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Reflec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1" dur="1" fill="hold">
                                    <p:stCondLst>
                                      <p:cond evt="end">
                                        <p:tn val="607"/>
                                      </p:cond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295280" y="6094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Refraction of Wa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 The speed of a water wave increases with depth. This 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in speed is  accompanied b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refr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73120" y="5410080"/>
            <a:ext cx="85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is effect is a consequence of the wave equation, v = ƒ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ince ƒ is constant, a decrease in v produces a decrease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D:\My_files\NRefrac.jpg"/>
          <p:cNvPicPr/>
          <p:nvPr/>
        </p:nvPicPr>
        <p:blipFill>
          <a:blip r:embed="rId2"/>
          <a:stretch/>
        </p:blipFill>
        <p:spPr>
          <a:xfrm>
            <a:off x="1143000" y="2590920"/>
            <a:ext cx="7130880" cy="267948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6" descr=""/>
          <p:cNvPicPr/>
          <p:nvPr/>
        </p:nvPicPr>
        <p:blipFill>
          <a:blip r:embed="rId3"/>
          <a:stretch/>
        </p:blipFill>
        <p:spPr>
          <a:xfrm>
            <a:off x="6553080" y="304920"/>
            <a:ext cx="1752840" cy="111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362320" y="533520"/>
            <a:ext cx="4647960" cy="703440"/>
          </a:xfrm>
          <a:prstGeom prst="rect">
            <a:avLst/>
          </a:prstGeom>
          <a:gradFill rotWithShape="0">
            <a:gsLst>
              <a:gs pos="0">
                <a:srgbClr val="765737"/>
              </a:gs>
              <a:gs pos="50000">
                <a:srgbClr val="ffbb77"/>
              </a:gs>
              <a:gs pos="100000">
                <a:srgbClr val="7657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Times New Roman"/>
                <a:ea typeface="新細明體"/>
              </a:rPr>
              <a:t>Diffraction of Wa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752760" y="1905120"/>
            <a:ext cx="7761240" cy="1191240"/>
          </a:xfrm>
          <a:prstGeom prst="rect">
            <a:avLst/>
          </a:prstGeom>
          <a:solidFill>
            <a:srgbClr val="ff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travelling water wave hits an obstacle, the wavefro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reads out round the edge and becomes curv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is phenomenon refers t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diffra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74400" y="5791320"/>
            <a:ext cx="8468280" cy="459720"/>
          </a:xfrm>
          <a:prstGeom prst="rect">
            <a:avLst/>
          </a:prstGeom>
          <a:solidFill>
            <a:srgbClr val="ff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新細明體"/>
              </a:rPr>
              <a:t>The wavelength of the wave is not changed in diffraction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D:\My_files\NDiffra.jpg"/>
          <p:cNvPicPr/>
          <p:nvPr/>
        </p:nvPicPr>
        <p:blipFill>
          <a:blip r:embed="rId2"/>
          <a:stretch/>
        </p:blipFill>
        <p:spPr>
          <a:xfrm>
            <a:off x="838080" y="3276720"/>
            <a:ext cx="749628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133720" y="4572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2300"/>
                </a:solidFill>
                <a:latin typeface="Times New Roman"/>
                <a:ea typeface="新細明體"/>
              </a:rPr>
              <a:t>Interference of Wa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01600" y="1260360"/>
            <a:ext cx="881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When two or more waves propagating in the same medium meet at the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 same point,</a:t>
            </a:r>
            <a:r>
              <a:rPr b="1" lang="en-US" sz="2400" spc="-1" strike="noStrike">
                <a:solidFill>
                  <a:srgbClr val="462300"/>
                </a:solidFill>
                <a:latin typeface="Times New Roman"/>
                <a:ea typeface="新細明體"/>
              </a:rPr>
              <a:t> interference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 is said to occur.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68280" y="2021040"/>
            <a:ext cx="863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A stable interference pattern can be observed when two water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waves of same frequency meet one another in a ripple ta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D:\My_files\NInterf.jpg"/>
          <p:cNvPicPr/>
          <p:nvPr/>
        </p:nvPicPr>
        <p:blipFill>
          <a:blip r:embed="rId2"/>
          <a:stretch/>
        </p:blipFill>
        <p:spPr>
          <a:xfrm>
            <a:off x="609480" y="2971800"/>
            <a:ext cx="8107560" cy="2532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D:\My_files\NTRAIN.JPG"/>
          <p:cNvPicPr/>
          <p:nvPr/>
        </p:nvPicPr>
        <p:blipFill>
          <a:blip r:embed="rId3"/>
          <a:stretch/>
        </p:blipFill>
        <p:spPr>
          <a:xfrm>
            <a:off x="1447920" y="5867280"/>
            <a:ext cx="5562360" cy="3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D:\My_files\NTRAIN.JPG"/>
          <p:cNvPicPr/>
          <p:nvPr/>
        </p:nvPicPr>
        <p:blipFill>
          <a:blip r:embed="rId4"/>
          <a:stretch/>
        </p:blipFill>
        <p:spPr>
          <a:xfrm>
            <a:off x="1523880" y="5791320"/>
            <a:ext cx="5486400" cy="4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D:\My_files\NTRAIN.JPG"/>
          <p:cNvPicPr/>
          <p:nvPr/>
        </p:nvPicPr>
        <p:blipFill>
          <a:blip r:embed="rId5"/>
          <a:stretch/>
        </p:blipFill>
        <p:spPr>
          <a:xfrm>
            <a:off x="1447920" y="5638680"/>
            <a:ext cx="5790960" cy="911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7681680" y="57117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71400" y="5635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7010280" y="56386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evt="end">
                                        <p:tn val="720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371600" y="304920"/>
            <a:ext cx="6477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新細明體"/>
              </a:rPr>
              <a:t>Table of Cont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新細明體"/>
              <a:ea typeface="新細明體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13716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Part A      : Definition</a:t>
            </a:r>
            <a:r>
              <a:rPr b="0" lang="en-US" sz="18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- Definition of waves.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                         - Basic Properties of waves.</a:t>
            </a:r>
            <a:r>
              <a:rPr b="0" lang="en-US" sz="16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Part B      : Types of Waves </a:t>
            </a: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                     and Terminology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.</a:t>
            </a:r>
            <a:r>
              <a:rPr b="0" lang="en-US" sz="18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- Mechanical waves  :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                              Transverse and Longitudinal waves.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                         - Electromagnetic waves.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                         - Terminology of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Part C      : The Wav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Part D      :  Common Characteristic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Part E      :  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696080" y="2286000"/>
          <a:ext cx="1108080" cy="213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96080" y="2286000"/>
                    <a:ext cx="11080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AutoShape 5"/>
          <p:cNvSpPr/>
          <p:nvPr/>
        </p:nvSpPr>
        <p:spPr>
          <a:xfrm>
            <a:off x="6324480" y="1371600"/>
            <a:ext cx="1600200" cy="990720"/>
          </a:xfrm>
          <a:prstGeom prst="cloudCallout">
            <a:avLst>
              <a:gd name="adj1" fmla="val 82143"/>
              <a:gd name="adj2" fmla="val 328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ba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>
            <a:hlinkClick r:id="rId6"/>
          </p:cNvPr>
          <p:cNvSpPr/>
          <p:nvPr/>
        </p:nvSpPr>
        <p:spPr>
          <a:xfrm>
            <a:off x="1676520" y="14479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0196"/>
                </a:moveTo>
                <a:lnTo>
                  <a:pt x="7301" y="10196"/>
                </a:lnTo>
                <a:lnTo>
                  <a:pt x="7301" y="15531"/>
                </a:lnTo>
                <a:cubicBezTo>
                  <a:pt x="7301" y="16454"/>
                  <a:pt x="8102" y="17185"/>
                  <a:pt x="9138" y="17185"/>
                </a:cubicBezTo>
                <a:lnTo>
                  <a:pt x="10800" y="17185"/>
                </a:lnTo>
                <a:cubicBezTo>
                  <a:pt x="11836" y="17185"/>
                  <a:pt x="12636" y="16454"/>
                  <a:pt x="12636" y="15531"/>
                </a:cubicBezTo>
                <a:lnTo>
                  <a:pt x="12636" y="10196"/>
                </a:lnTo>
                <a:lnTo>
                  <a:pt x="10800" y="10196"/>
                </a:lnTo>
                <a:lnTo>
                  <a:pt x="14308" y="6688"/>
                </a:lnTo>
                <a:lnTo>
                  <a:pt x="17981" y="10196"/>
                </a:lnTo>
                <a:lnTo>
                  <a:pt x="16144" y="10196"/>
                </a:lnTo>
                <a:lnTo>
                  <a:pt x="16144" y="15531"/>
                </a:lnTo>
                <a:cubicBezTo>
                  <a:pt x="16144" y="18299"/>
                  <a:pt x="13568" y="20858"/>
                  <a:pt x="10800" y="20858"/>
                </a:cubicBezTo>
                <a:lnTo>
                  <a:pt x="9138" y="20858"/>
                </a:lnTo>
                <a:cubicBezTo>
                  <a:pt x="6370" y="20858"/>
                  <a:pt x="3794" y="18299"/>
                  <a:pt x="3794" y="15531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>
            <a:hlinkClick r:id="rId7"/>
          </p:cNvPr>
          <p:cNvSpPr/>
          <p:nvPr/>
        </p:nvSpPr>
        <p:spPr>
          <a:xfrm>
            <a:off x="1676520" y="2666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10209"/>
                </a:moveTo>
                <a:lnTo>
                  <a:pt x="7301" y="10209"/>
                </a:lnTo>
                <a:lnTo>
                  <a:pt x="7301" y="15544"/>
                </a:lnTo>
                <a:cubicBezTo>
                  <a:pt x="7301" y="16466"/>
                  <a:pt x="8102" y="17198"/>
                  <a:pt x="9138" y="17198"/>
                </a:cubicBezTo>
                <a:lnTo>
                  <a:pt x="10800" y="17198"/>
                </a:lnTo>
                <a:cubicBezTo>
                  <a:pt x="11836" y="17198"/>
                  <a:pt x="12636" y="16466"/>
                  <a:pt x="12636" y="15544"/>
                </a:cubicBezTo>
                <a:lnTo>
                  <a:pt x="12636" y="10209"/>
                </a:lnTo>
                <a:lnTo>
                  <a:pt x="10800" y="10209"/>
                </a:lnTo>
                <a:lnTo>
                  <a:pt x="14308" y="6701"/>
                </a:lnTo>
                <a:lnTo>
                  <a:pt x="17981" y="10209"/>
                </a:lnTo>
                <a:lnTo>
                  <a:pt x="16144" y="10209"/>
                </a:lnTo>
                <a:lnTo>
                  <a:pt x="16144" y="15544"/>
                </a:lnTo>
                <a:cubicBezTo>
                  <a:pt x="16144" y="18312"/>
                  <a:pt x="13568" y="20871"/>
                  <a:pt x="10800" y="20871"/>
                </a:cubicBezTo>
                <a:lnTo>
                  <a:pt x="9138" y="20871"/>
                </a:lnTo>
                <a:cubicBezTo>
                  <a:pt x="6370" y="20871"/>
                  <a:pt x="3794" y="18312"/>
                  <a:pt x="3794" y="15544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>
            <a:hlinkClick r:id="rId8"/>
          </p:cNvPr>
          <p:cNvSpPr/>
          <p:nvPr/>
        </p:nvSpPr>
        <p:spPr>
          <a:xfrm>
            <a:off x="1676520" y="5105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0196"/>
                </a:moveTo>
                <a:lnTo>
                  <a:pt x="7301" y="10196"/>
                </a:lnTo>
                <a:lnTo>
                  <a:pt x="7301" y="15531"/>
                </a:lnTo>
                <a:cubicBezTo>
                  <a:pt x="7301" y="16454"/>
                  <a:pt x="8102" y="17185"/>
                  <a:pt x="9138" y="17185"/>
                </a:cubicBezTo>
                <a:lnTo>
                  <a:pt x="10800" y="17185"/>
                </a:lnTo>
                <a:cubicBezTo>
                  <a:pt x="11836" y="17185"/>
                  <a:pt x="12636" y="16454"/>
                  <a:pt x="12636" y="15531"/>
                </a:cubicBezTo>
                <a:lnTo>
                  <a:pt x="12636" y="10196"/>
                </a:lnTo>
                <a:lnTo>
                  <a:pt x="10800" y="10196"/>
                </a:lnTo>
                <a:lnTo>
                  <a:pt x="14308" y="6688"/>
                </a:lnTo>
                <a:lnTo>
                  <a:pt x="17981" y="10196"/>
                </a:lnTo>
                <a:lnTo>
                  <a:pt x="16144" y="10196"/>
                </a:lnTo>
                <a:lnTo>
                  <a:pt x="16144" y="15531"/>
                </a:lnTo>
                <a:cubicBezTo>
                  <a:pt x="16144" y="18299"/>
                  <a:pt x="13568" y="20858"/>
                  <a:pt x="10800" y="20858"/>
                </a:cubicBezTo>
                <a:lnTo>
                  <a:pt x="9138" y="20858"/>
                </a:lnTo>
                <a:cubicBezTo>
                  <a:pt x="6370" y="20858"/>
                  <a:pt x="3794" y="18299"/>
                  <a:pt x="3794" y="15531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>
            <a:hlinkClick r:id="rId9"/>
          </p:cNvPr>
          <p:cNvSpPr/>
          <p:nvPr/>
        </p:nvSpPr>
        <p:spPr>
          <a:xfrm>
            <a:off x="1676520" y="55627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0196"/>
                </a:moveTo>
                <a:lnTo>
                  <a:pt x="7301" y="10196"/>
                </a:lnTo>
                <a:lnTo>
                  <a:pt x="7301" y="15531"/>
                </a:lnTo>
                <a:cubicBezTo>
                  <a:pt x="7301" y="16454"/>
                  <a:pt x="8102" y="17185"/>
                  <a:pt x="9138" y="17185"/>
                </a:cubicBezTo>
                <a:lnTo>
                  <a:pt x="10800" y="17185"/>
                </a:lnTo>
                <a:cubicBezTo>
                  <a:pt x="11836" y="17185"/>
                  <a:pt x="12636" y="16454"/>
                  <a:pt x="12636" y="15531"/>
                </a:cubicBezTo>
                <a:lnTo>
                  <a:pt x="12636" y="10196"/>
                </a:lnTo>
                <a:lnTo>
                  <a:pt x="10800" y="10196"/>
                </a:lnTo>
                <a:lnTo>
                  <a:pt x="14308" y="6688"/>
                </a:lnTo>
                <a:lnTo>
                  <a:pt x="17981" y="10196"/>
                </a:lnTo>
                <a:lnTo>
                  <a:pt x="16144" y="10196"/>
                </a:lnTo>
                <a:lnTo>
                  <a:pt x="16144" y="15531"/>
                </a:lnTo>
                <a:cubicBezTo>
                  <a:pt x="16144" y="18299"/>
                  <a:pt x="13568" y="20858"/>
                  <a:pt x="10800" y="20858"/>
                </a:cubicBezTo>
                <a:lnTo>
                  <a:pt x="9138" y="20858"/>
                </a:lnTo>
                <a:cubicBezTo>
                  <a:pt x="6370" y="20858"/>
                  <a:pt x="3794" y="18299"/>
                  <a:pt x="3794" y="15531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>
            <a:hlinkClick r:id="rId10"/>
          </p:cNvPr>
          <p:cNvSpPr/>
          <p:nvPr/>
        </p:nvSpPr>
        <p:spPr>
          <a:xfrm>
            <a:off x="16765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10209"/>
                </a:moveTo>
                <a:lnTo>
                  <a:pt x="7301" y="10209"/>
                </a:lnTo>
                <a:lnTo>
                  <a:pt x="7301" y="15544"/>
                </a:lnTo>
                <a:cubicBezTo>
                  <a:pt x="7301" y="16466"/>
                  <a:pt x="8102" y="17198"/>
                  <a:pt x="9138" y="17198"/>
                </a:cubicBezTo>
                <a:lnTo>
                  <a:pt x="10800" y="17198"/>
                </a:lnTo>
                <a:cubicBezTo>
                  <a:pt x="11836" y="17198"/>
                  <a:pt x="12636" y="16466"/>
                  <a:pt x="12636" y="15544"/>
                </a:cubicBezTo>
                <a:lnTo>
                  <a:pt x="12636" y="10209"/>
                </a:lnTo>
                <a:lnTo>
                  <a:pt x="10800" y="10209"/>
                </a:lnTo>
                <a:lnTo>
                  <a:pt x="14308" y="6701"/>
                </a:lnTo>
                <a:lnTo>
                  <a:pt x="17981" y="10209"/>
                </a:lnTo>
                <a:lnTo>
                  <a:pt x="16144" y="10209"/>
                </a:lnTo>
                <a:lnTo>
                  <a:pt x="16144" y="15544"/>
                </a:lnTo>
                <a:cubicBezTo>
                  <a:pt x="16144" y="18312"/>
                  <a:pt x="13568" y="20871"/>
                  <a:pt x="10800" y="20871"/>
                </a:cubicBezTo>
                <a:lnTo>
                  <a:pt x="9138" y="20871"/>
                </a:lnTo>
                <a:cubicBezTo>
                  <a:pt x="6370" y="20871"/>
                  <a:pt x="3794" y="18312"/>
                  <a:pt x="3794" y="15544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">
            <a:hlinkClick r:id="" action="ppaction://hlinkshowjump?jump=nextslide"/>
            <a:hlinkClick r:id="rId11"/>
          </p:cNvPr>
          <p:cNvSpPr/>
          <p:nvPr/>
        </p:nvSpPr>
        <p:spPr>
          <a:xfrm>
            <a:off x="8229600" y="62485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deb2b2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590400" y="1219320"/>
            <a:ext cx="85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We have seen that mechanical waves (water waves in our example)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well demonstrate these character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74280" y="213372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新細明體"/>
              </a:rPr>
              <a:t>Electromagnetic waves show all these characteristics as wel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4495680"/>
            <a:ext cx="836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is known that light demonstrates all these five characteristics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waves, do you think that light exists in the form of w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191120" y="55627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新細明體"/>
              </a:rPr>
              <a:t>it is an electromagnetic wave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新細明體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4572000" y="3352680"/>
            <a:ext cx="1371600" cy="9144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Arial"/>
                <a:ea typeface="新細明體"/>
              </a:rPr>
              <a:t>Th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1143000" y="5334120"/>
            <a:ext cx="1447920" cy="1143000"/>
          </a:xfrm>
          <a:prstGeom prst="horizontalScroll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lick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Object 8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836640" y="53352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kinds of wa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emonstrate these 5 character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049200" y="5562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Ye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75"/>
                            </p:stCondLst>
                            <p:childTnLst>
                              <p:par>
                                <p:cTn id="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42840" y="30456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PART 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480" y="33526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is lecture, you should be 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answer the following questions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WordArt 1028"/>
          <p:cNvSpPr txBox="1"/>
          <p:nvPr/>
        </p:nvSpPr>
        <p:spPr>
          <a:xfrm rot="21570600">
            <a:off x="3200400" y="837720"/>
            <a:ext cx="320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3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新細明體"/>
              </a:rPr>
              <a:t>Revision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3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180" name="arrowhit.avi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286000" cy="2678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30"/>
          <p:cNvSpPr/>
          <p:nvPr/>
        </p:nvSpPr>
        <p:spPr>
          <a:xfrm>
            <a:off x="671040" y="2124000"/>
            <a:ext cx="472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Now you have learned the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concepts of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Waves</a:t>
            </a:r>
            <a:r>
              <a:rPr b="0" lang="en-US" sz="28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031"/>
          <p:cNvSpPr/>
          <p:nvPr/>
        </p:nvSpPr>
        <p:spPr>
          <a:xfrm>
            <a:off x="2057400" y="4648320"/>
            <a:ext cx="3048120" cy="167616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e you read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032"/>
          <p:cNvSpPr/>
          <p:nvPr/>
        </p:nvSpPr>
        <p:spPr>
          <a:xfrm>
            <a:off x="8381880" y="44197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  <a:path fill="darken" w="21600" h="30199">
                <a:moveTo>
                  <a:pt x="3794" y="11792"/>
                </a:moveTo>
                <a:lnTo>
                  <a:pt x="7301" y="11792"/>
                </a:lnTo>
                <a:lnTo>
                  <a:pt x="7301" y="17128"/>
                </a:lnTo>
                <a:cubicBezTo>
                  <a:pt x="7301" y="18050"/>
                  <a:pt x="8102" y="18781"/>
                  <a:pt x="9138" y="18781"/>
                </a:cubicBezTo>
                <a:lnTo>
                  <a:pt x="10800" y="18781"/>
                </a:lnTo>
                <a:cubicBezTo>
                  <a:pt x="11836" y="18781"/>
                  <a:pt x="12636" y="18050"/>
                  <a:pt x="12636" y="17128"/>
                </a:cubicBezTo>
                <a:lnTo>
                  <a:pt x="12636" y="11792"/>
                </a:lnTo>
                <a:lnTo>
                  <a:pt x="10800" y="11792"/>
                </a:lnTo>
                <a:lnTo>
                  <a:pt x="14308" y="8285"/>
                </a:lnTo>
                <a:lnTo>
                  <a:pt x="17981" y="11792"/>
                </a:lnTo>
                <a:lnTo>
                  <a:pt x="16144" y="11792"/>
                </a:lnTo>
                <a:lnTo>
                  <a:pt x="16144" y="17128"/>
                </a:lnTo>
                <a:cubicBezTo>
                  <a:pt x="16144" y="19895"/>
                  <a:pt x="13568" y="22454"/>
                  <a:pt x="10800" y="22454"/>
                </a:cubicBezTo>
                <a:lnTo>
                  <a:pt x="9138" y="22454"/>
                </a:lnTo>
                <a:cubicBezTo>
                  <a:pt x="6370" y="22454"/>
                  <a:pt x="3794" y="19895"/>
                  <a:pt x="3794" y="171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33"/>
          <p:cNvSpPr/>
          <p:nvPr/>
        </p:nvSpPr>
        <p:spPr>
          <a:xfrm>
            <a:off x="6553080" y="40384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Click here to go back to table of contents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>
            <a:hlinkClick r:id="" action="ppaction://hlinkshowjump?jump=nextslide"/>
          </p:cNvPr>
          <p:cNvSpPr/>
          <p:nvPr/>
        </p:nvSpPr>
        <p:spPr>
          <a:xfrm>
            <a:off x="8381880" y="5105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  <a:path fill="darken" w="21600" h="34519">
                <a:moveTo>
                  <a:pt x="3794" y="10253"/>
                </a:moveTo>
                <a:lnTo>
                  <a:pt x="17806" y="17260"/>
                </a:lnTo>
                <a:lnTo>
                  <a:pt x="3794" y="2426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35"/>
          <p:cNvSpPr/>
          <p:nvPr/>
        </p:nvSpPr>
        <p:spPr>
          <a:xfrm>
            <a:off x="6781680" y="51814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Times New Roman"/>
                <a:ea typeface="新細明體"/>
              </a:rPr>
              <a:t>Next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036">
            <a:hlinkClick r:id="" action="ppaction://hlinkshowjump?jump=endshow"/>
            <a:hlinkClick r:id="rId3"/>
          </p:cNvPr>
          <p:cNvSpPr/>
          <p:nvPr/>
        </p:nvSpPr>
        <p:spPr>
          <a:xfrm>
            <a:off x="8381880" y="58672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  <a:path fill="darken" w="21600" h="34540">
                <a:moveTo>
                  <a:pt x="14299" y="17270"/>
                </a:moveTo>
                <a:lnTo>
                  <a:pt x="3794" y="24276"/>
                </a:lnTo>
                <a:lnTo>
                  <a:pt x="3794" y="10263"/>
                </a:lnTo>
                <a:close/>
              </a:path>
              <a:path fill="darken" w="21600" h="34540">
                <a:moveTo>
                  <a:pt x="16144" y="10263"/>
                </a:moveTo>
                <a:lnTo>
                  <a:pt x="16144" y="24276"/>
                </a:lnTo>
                <a:lnTo>
                  <a:pt x="17806" y="24276"/>
                </a:lnTo>
                <a:lnTo>
                  <a:pt x="17806" y="102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37"/>
          <p:cNvSpPr/>
          <p:nvPr/>
        </p:nvSpPr>
        <p:spPr>
          <a:xfrm>
            <a:off x="6095880" y="5943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Times New Roman"/>
                <a:ea typeface="新細明體"/>
              </a:rPr>
              <a:t>End the slide 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0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2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1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bf3"/>
            </a:gs>
            <a:gs pos="100000">
              <a:srgbClr val="88cc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6840" y="533520"/>
            <a:ext cx="829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What is the difference between mechanical and electromagnet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wav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Object 3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770040" cy="1143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457200" y="1447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2. Can you give some examples of electromagnetic waves 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57200" y="2057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3. What is the direction of the particle motion in a transverse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    w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357640" y="3809880"/>
            <a:ext cx="58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4. Is sound a transverse or longitudinal w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Object 7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1752480" cy="11638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/>
          <p:cNvSpPr/>
          <p:nvPr/>
        </p:nvSpPr>
        <p:spPr>
          <a:xfrm>
            <a:off x="4572000" y="2819520"/>
            <a:ext cx="3352680" cy="38088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2520 h 380880"/>
              <a:gd name="textAreaBottom" fmla="*/ 3783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6350"/>
                </a:moveTo>
                <a:arcTo wR="21600" hR="5038" stAng="9480057" swAng="-1205712"/>
                <a:lnTo>
                  <a:pt x="5400" y="21440"/>
                </a:lnTo>
                <a:arcTo wR="21600" hR="5038" stAng="8274345" swAng="-5748691"/>
                <a:lnTo>
                  <a:pt x="16200" y="16865"/>
                </a:lnTo>
                <a:arcTo wR="21600" hR="5038" stAng="2525655" swAng="-1205712"/>
                <a:lnTo>
                  <a:pt x="18900" y="8482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2377557"/>
                <a:lnTo>
                  <a:pt x="13500" y="5210"/>
                </a:lnTo>
                <a:arcTo wR="21600" hR="5038" stAng="3697500" swAng="3404999"/>
                <a:lnTo>
                  <a:pt x="8100" y="635"/>
                </a:lnTo>
                <a:arcTo wR="21600" hR="5038" stAng="7102500" swAng="2377557"/>
                <a:lnTo>
                  <a:pt x="2700" y="8482"/>
                </a:lnTo>
                <a:close/>
              </a:path>
              <a:path fill="none" w="21600" h="21600">
                <a:moveTo>
                  <a:pt x="8100" y="5210"/>
                </a:moveTo>
                <a:arcTo wR="21600" hR="5038" stAng="7102500" swAng="1171846"/>
                <a:lnTo>
                  <a:pt x="8100" y="635"/>
                </a:lnTo>
              </a:path>
              <a:path fill="none" w="21600" h="21600">
                <a:moveTo>
                  <a:pt x="13500" y="5210"/>
                </a:moveTo>
                <a:arcTo wR="21600" hR="5038" stAng="3697500" swAng="-1171846"/>
                <a:lnTo>
                  <a:pt x="13500" y="635"/>
                </a:lnTo>
              </a:path>
              <a:path fill="none" w="21600" h="21600">
                <a:moveTo>
                  <a:pt x="5400" y="16865"/>
                </a:moveTo>
                <a:lnTo>
                  <a:pt x="5400" y="5090"/>
                </a:lnTo>
              </a:path>
              <a:path fill="none" w="21600" h="21600">
                <a:moveTo>
                  <a:pt x="16200" y="16865"/>
                </a:moveTo>
                <a:lnTo>
                  <a:pt x="16200" y="509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752040" y="487692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. Is it correct that water waves do not transmit energy from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point to anoth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80880" y="563868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If you do not have all 5 questions answered correctly,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新細明體"/>
              </a:rPr>
              <a:t>  click here and back to part B again if necessary ----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1">
            <a:hlinkClick r:id="rId3"/>
          </p:cNvPr>
          <p:cNvSpPr/>
          <p:nvPr/>
        </p:nvSpPr>
        <p:spPr>
          <a:xfrm>
            <a:off x="7086600" y="58672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2">
            <a:hlinkClick r:id="" action="ppaction://hlinkshowjump?jump=nextslide"/>
          </p:cNvPr>
          <p:cNvSpPr/>
          <p:nvPr/>
        </p:nvSpPr>
        <p:spPr>
          <a:xfrm>
            <a:off x="8305920" y="586728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8"/>
                </a:lnTo>
                <a:lnTo>
                  <a:pt x="3794" y="1781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0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1ff"/>
            </a:gs>
            <a:gs pos="50000">
              <a:srgbClr val="ffcc99"/>
            </a:gs>
            <a:gs pos="100000">
              <a:srgbClr val="ffc1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210680" y="6094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In a wave diagram, can you identify the following terms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(a)  wave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(b)  ampl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140120" y="190512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2. Write down the wav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134720" y="251460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  <a:ea typeface="新細明體"/>
              </a:rPr>
              <a:t>3. What are the 5 common characteristics of wav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5">
            <a:hlinkClick r:id="rId1"/>
          </p:cNvPr>
          <p:cNvSpPr/>
          <p:nvPr/>
        </p:nvSpPr>
        <p:spPr>
          <a:xfrm>
            <a:off x="7924680" y="4419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7493"/>
                </a:moveTo>
                <a:lnTo>
                  <a:pt x="10391" y="7493"/>
                </a:lnTo>
                <a:lnTo>
                  <a:pt x="10391" y="12828"/>
                </a:lnTo>
                <a:cubicBezTo>
                  <a:pt x="10391" y="13751"/>
                  <a:pt x="11192" y="14482"/>
                  <a:pt x="12227" y="14482"/>
                </a:cubicBezTo>
                <a:lnTo>
                  <a:pt x="13890" y="14482"/>
                </a:lnTo>
                <a:cubicBezTo>
                  <a:pt x="14926" y="14482"/>
                  <a:pt x="15726" y="13751"/>
                  <a:pt x="15726" y="12828"/>
                </a:cubicBezTo>
                <a:lnTo>
                  <a:pt x="15726" y="7493"/>
                </a:lnTo>
                <a:lnTo>
                  <a:pt x="13890" y="7493"/>
                </a:lnTo>
                <a:lnTo>
                  <a:pt x="17397" y="3985"/>
                </a:lnTo>
                <a:lnTo>
                  <a:pt x="21070" y="7493"/>
                </a:lnTo>
                <a:lnTo>
                  <a:pt x="19234" y="7493"/>
                </a:lnTo>
                <a:lnTo>
                  <a:pt x="19234" y="12828"/>
                </a:lnTo>
                <a:cubicBezTo>
                  <a:pt x="19234" y="15596"/>
                  <a:pt x="16658" y="18155"/>
                  <a:pt x="13890" y="18155"/>
                </a:cubicBezTo>
                <a:lnTo>
                  <a:pt x="12227" y="18155"/>
                </a:lnTo>
                <a:cubicBezTo>
                  <a:pt x="9460" y="18155"/>
                  <a:pt x="6883" y="15596"/>
                  <a:pt x="6883" y="12828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Object 6" descr=""/>
          <p:cNvPicPr/>
          <p:nvPr/>
        </p:nvPicPr>
        <p:blipFill>
          <a:blip r:embed="rId2"/>
          <a:stretch/>
        </p:blipFill>
        <p:spPr>
          <a:xfrm>
            <a:off x="3429000" y="4343400"/>
            <a:ext cx="1050840" cy="1981080"/>
          </a:xfrm>
          <a:prstGeom prst="rect">
            <a:avLst/>
          </a:prstGeom>
          <a:ln w="0">
            <a:noFill/>
          </a:ln>
        </p:spPr>
      </p:pic>
      <p:pic>
        <p:nvPicPr>
          <p:cNvPr id="205" name="arrowmis.avi" descr=""/>
          <p:cNvPicPr/>
          <p:nvPr/>
        </p:nvPicPr>
        <p:blipFill>
          <a:blip r:embed="rId3"/>
          <a:stretch/>
        </p:blipFill>
        <p:spPr>
          <a:xfrm>
            <a:off x="990720" y="3200400"/>
            <a:ext cx="2228760" cy="29718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8"/>
          <p:cNvSpPr/>
          <p:nvPr/>
        </p:nvSpPr>
        <p:spPr>
          <a:xfrm>
            <a:off x="5334120" y="3048120"/>
            <a:ext cx="2590560" cy="1904760"/>
          </a:xfrm>
          <a:prstGeom prst="wedgeEllipseCallout">
            <a:avLst>
              <a:gd name="adj1" fmla="val -76592"/>
              <a:gd name="adj2" fmla="val 34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you miss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 this question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 back to the le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clicking th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ton --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>
            <a:hlinkClick r:id="" action="ppaction://hlinkshowjump?jump=nextslide"/>
            <a:hlinkClick r:id="rId4"/>
          </p:cNvPr>
          <p:cNvSpPr/>
          <p:nvPr/>
        </p:nvSpPr>
        <p:spPr>
          <a:xfrm>
            <a:off x="7620120" y="60199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3794"/>
                </a:moveTo>
                <a:lnTo>
                  <a:pt x="37234" y="10800"/>
                </a:lnTo>
                <a:lnTo>
                  <a:pt x="2322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0">
            <a:hlinkClick r:id="" action="ppaction://hlinkshowjump?jump=previousslide"/>
            <a:hlinkClick r:id="rId5"/>
          </p:cNvPr>
          <p:cNvSpPr/>
          <p:nvPr/>
        </p:nvSpPr>
        <p:spPr>
          <a:xfrm>
            <a:off x="65530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0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4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82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5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f6e0"/>
            </a:gs>
            <a:gs pos="50000">
              <a:srgbClr val="b1b1ff"/>
            </a:gs>
            <a:gs pos="100000">
              <a:srgbClr val="daf6e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winner.avi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3886200" cy="271296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3">
            <a:hlinkClick r:id="" action="ppaction://hlinkshowjump?jump=firstslide"/>
            <a:hlinkClick r:id="rId2"/>
          </p:cNvPr>
          <p:cNvSpPr/>
          <p:nvPr/>
        </p:nvSpPr>
        <p:spPr>
          <a:xfrm>
            <a:off x="79246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5939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14094" y="3794"/>
                </a:lnTo>
                <a:lnTo>
                  <a:pt x="14094" y="17806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910080" y="380880"/>
            <a:ext cx="68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  <a:ea typeface="新細明體"/>
              </a:rPr>
              <a:t>Now we come to the conclusion of introducing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906480" y="76212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should be able to tell the nature of waves, and 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erent types of waves after thi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6"/>
          <p:cNvSpPr txBox="1"/>
          <p:nvPr/>
        </p:nvSpPr>
        <p:spPr>
          <a:xfrm rot="5400000">
            <a:off x="-266760" y="2400120"/>
            <a:ext cx="236232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nUp">
              <a:avLst>
                <a:gd name="adj" fmla="val 67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新細明體"/>
              </a:rPr>
              <a:t>Wav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新細明體"/>
              <a:ea typeface="新細明體"/>
            </a:endParaRPr>
          </a:p>
        </p:txBody>
      </p:sp>
      <p:sp>
        <p:nvSpPr>
          <p:cNvPr id="214" name="WordArt 7"/>
          <p:cNvSpPr txBox="1"/>
          <p:nvPr/>
        </p:nvSpPr>
        <p:spPr>
          <a:xfrm>
            <a:off x="6858000" y="3733920"/>
            <a:ext cx="1828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2600">
                  <a:solidFill>
                    <a:srgbClr val="800080"/>
                  </a:solidFill>
                  <a:custDash>
                    <a:ds d="100000" sp="1000"/>
                  </a:custDash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新細明體"/>
              </a:rPr>
              <a:t>Waves</a:t>
            </a:r>
            <a:endParaRPr b="0" lang="en-US" sz="2400" spc="1" strike="noStrike">
              <a:ln cap="rnd" w="12600">
                <a:solidFill>
                  <a:srgbClr val="800080"/>
                </a:solidFill>
                <a:custDash>
                  <a:ds d="100000" sp="1000"/>
                </a:custDash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215" name="WordArt 8"/>
          <p:cNvSpPr txBox="1"/>
          <p:nvPr/>
        </p:nvSpPr>
        <p:spPr>
          <a:xfrm>
            <a:off x="5791320" y="2133720"/>
            <a:ext cx="335268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7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ffc1ff"/>
                    </a:gs>
                  </a:gsLst>
                  <a:lin ang="2700000"/>
                </a:gradFill>
                <a:latin typeface="新細明體"/>
              </a:rPr>
              <a:t>mechanic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100000">
                    <a:srgbClr val="ffc1ff"/>
                  </a:gs>
                </a:gsLst>
                <a:lin ang="2700000"/>
              </a:gradFill>
              <a:latin typeface="新細明體"/>
              <a:ea typeface="新細明體"/>
            </a:endParaRPr>
          </a:p>
        </p:txBody>
      </p:sp>
      <p:sp>
        <p:nvSpPr>
          <p:cNvPr id="216" name="WordArt 9"/>
          <p:cNvSpPr txBox="1"/>
          <p:nvPr/>
        </p:nvSpPr>
        <p:spPr>
          <a:xfrm>
            <a:off x="5867280" y="320040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新細明體"/>
              </a:rPr>
              <a:t>Electromagneti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新細明體"/>
              <a:ea typeface="新細明體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376200" y="4495680"/>
            <a:ext cx="703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The study of waves is important in Physics.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From the motion of water to the structure of atoms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study of waves applies almost in every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1676520" y="5791320"/>
            <a:ext cx="38862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END OF 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0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6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038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1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PART A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finition of wa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eriod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disturbance which travels through a medium from one point in space to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066680" y="380988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981080" y="380988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2895480" y="380988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380988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563868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655308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472428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33520" y="480060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新細明體"/>
              </a:rPr>
              <a:t>Wave motion means the propagation of waves through a med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新細明體"/>
              </a:rPr>
              <a:t>Wave motion appears in almost every branch of Phys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9ed"/>
            </a:gs>
            <a:gs pos="100000">
              <a:srgbClr val="765d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sic properties of wav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er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ransferred from one place to another in a wave mo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Motion of the medium (particles of the medium) is usually periodically vibra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ape or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wave travels, not th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6172200" y="4495680"/>
          <a:ext cx="173520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4495680"/>
                    <a:ext cx="17352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AutoShape 5"/>
          <p:cNvSpPr/>
          <p:nvPr/>
        </p:nvSpPr>
        <p:spPr>
          <a:xfrm>
            <a:off x="3276720" y="4419720"/>
            <a:ext cx="2514600" cy="1600200"/>
          </a:xfrm>
          <a:prstGeom prst="irregularSeal2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  <a:ea typeface="新細明體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新細明體"/>
              </a:rPr>
              <a:t>Remember to 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新細明體"/>
              </a:rPr>
              <a:t>take 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     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PART B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                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TYPES  OF WAVES</a:t>
            </a:r>
            <a:br>
              <a:rPr sz="32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Wave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are classified into different types according to their natur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304920" y="2590920"/>
          <a:ext cx="846756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90920"/>
                    <a:ext cx="8467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1. Mechanical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material medium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 is necessary for the transmission for mechanical waves.  Mechanical waves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cannot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travel through vacu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Due to elastic forces on adjacent layers of medium, disturbance is transmitted from one layer to the next through the medi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09480" y="464832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ording to the direction of vibration, waves are also classified int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a)   Transverse wa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b)   Longitudinal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1143000" y="3809880"/>
            <a:ext cx="914400" cy="914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3962520" y="40384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7432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7086600" y="3352680"/>
            <a:ext cx="1676520" cy="990720"/>
          </a:xfrm>
          <a:prstGeom prst="cloudCallout">
            <a:avLst>
              <a:gd name="adj1" fmla="val -19319"/>
              <a:gd name="adj2" fmla="val 23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c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066680" y="3352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ter waves,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新細明體"/>
              </a:rPr>
              <a:t> s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vibration of sp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etc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WHOOSH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1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verse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新細明體"/>
              </a:rPr>
              <a:t>The waveform appears in the shape of sine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新細明體"/>
              </a:rPr>
              <a:t>A wave in which the motions of the matter particles are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新細明體"/>
              </a:rPr>
              <a:t>perpendicular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新細明體"/>
              </a:rPr>
              <a:t> to the direction of propagation of the wave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048120" y="29718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ter waves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pulse in a stretched string,transverse wave demonstrator</a:t>
            </a:r>
            <a:r>
              <a:rPr b="0" i="1" lang="en-US" sz="2800" spc="-1" strike="noStrike">
                <a:solidFill>
                  <a:srgbClr val="faf4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D:\My_files\NTRANSV.JPG"/>
          <p:cNvPicPr/>
          <p:nvPr/>
        </p:nvPicPr>
        <p:blipFill>
          <a:blip r:embed="rId2"/>
          <a:stretch/>
        </p:blipFill>
        <p:spPr>
          <a:xfrm>
            <a:off x="1371600" y="3968640"/>
            <a:ext cx="6462720" cy="2889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6"/>
          <p:cNvSpPr/>
          <p:nvPr/>
        </p:nvSpPr>
        <p:spPr>
          <a:xfrm>
            <a:off x="1600200" y="2743200"/>
            <a:ext cx="1290600" cy="609480"/>
          </a:xfrm>
          <a:prstGeom prst="cube">
            <a:avLst>
              <a:gd name="adj" fmla="val 32736"/>
            </a:avLst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ngitudinal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新細明體"/>
              </a:rPr>
              <a:t>A wave in which the motions of the matter particles are in the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新細明體"/>
              </a:rPr>
              <a:t>same direction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新細明體"/>
              </a:rPr>
              <a:t> as the wave propag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609480" y="3048120"/>
            <a:ext cx="1752840" cy="838080"/>
          </a:xfrm>
          <a:prstGeom prst="cloudCallout">
            <a:avLst>
              <a:gd name="adj1" fmla="val 366305"/>
              <a:gd name="adj2" fmla="val 4640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62320" y="2971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新細明體"/>
              </a:rPr>
              <a:t>a spring oscillating up and dow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tc.Show magnetic longitudinal demonst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D:\My_files\NLONG.JPG"/>
          <p:cNvPicPr/>
          <p:nvPr/>
        </p:nvPicPr>
        <p:blipFill>
          <a:blip r:embed="rId1"/>
          <a:stretch/>
        </p:blipFill>
        <p:spPr>
          <a:xfrm>
            <a:off x="990720" y="4038480"/>
            <a:ext cx="7362720" cy="2259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2. Electromagnetic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Material medium is not essential for propagation.  e/m waves travel through vacu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Disturbance of electric and magnetic fields travelling through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ll electromagnetic waves are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新細明體"/>
              </a:rPr>
              <a:t>transverse wav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09480" y="6019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X-ray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adio waves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micro-waves,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6019920" y="5943600"/>
            <a:ext cx="1752480" cy="609480"/>
          </a:xfrm>
          <a:prstGeom prst="wedgeEllipseCallout">
            <a:avLst>
              <a:gd name="adj1" fmla="val -81703"/>
              <a:gd name="adj2" fmla="val 3384"/>
            </a:avLst>
          </a:prstGeom>
          <a:solidFill>
            <a:srgbClr val="f8bc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D:\My_files\NEM.JPG"/>
          <p:cNvPicPr/>
          <p:nvPr/>
        </p:nvPicPr>
        <p:blipFill>
          <a:blip r:embed="rId2"/>
          <a:stretch/>
        </p:blipFill>
        <p:spPr>
          <a:xfrm>
            <a:off x="838080" y="342900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00:35:04Z</dcterms:created>
  <dc:creator>Owner</dc:creator>
  <dc:description/>
  <dc:language>en-US</dc:language>
  <cp:lastModifiedBy>Owner</cp:lastModifiedBy>
  <dcterms:modified xsi:type="dcterms:W3CDTF">2012-02-12T14:53:39Z</dcterms:modified>
  <cp:revision>6</cp:revision>
  <dc:subject>Physics and WAVES</dc:subject>
  <dc:title>General Wave Behavior</dc:title>
</cp:coreProperties>
</file>